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4860-D89F-4C3B-A0B4-CC0D16F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8EA4-9503-4BA6-AB69-D409E6DA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B253-392C-467A-9893-6E237E92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03D3-110E-406A-A578-ADDA4304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35F-CE82-4F25-9604-FB7F38F9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3DFF-A351-4F9D-951B-0E22670F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E9E-03E6-4CBC-A20A-63F453F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3459-3435-4E7F-8576-AF5A05D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A1E-21B8-455D-A876-6CD9CF1F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7EA6-23A6-4917-B9DE-E4C14CD7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6D5-14F2-4294-B967-4087B58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A8D3-697D-4009-B8FB-73F9443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067-2622-4E4E-9B67-19E218C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AEE-2376-4A5F-B6A7-A7DE57D7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F61A-04CE-4A70-B6FE-D14D58EB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CEAD-9CC9-4DF0-A58A-0FA513EA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762-7A9D-4166-BD2E-419EE219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AF4D-9136-4759-B95D-520A279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AAB1-129E-4530-9B33-2C9C566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FBEA-4386-4CF1-ABD1-29917657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BC59-7803-48D0-A21B-18906A6F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76C3-9F0D-4A54-B39C-1CFACA00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6136-6157-4C44-B9C8-30ABF2F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C27E-227B-42AD-BEE9-2D6B005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F01-F23B-4D04-8733-28EC09707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E647-70EF-48D1-9625-88A12075A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aidherbe.org/site/cours/dupuis/banque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faidherbe.org/site/cours/dupuis/banque.htm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7 + 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emical Bo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el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oil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4583160" y="1447920"/>
            <a:ext cx="4287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 of the attraction of the free-floating valence electrons for the positively charged metal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the forces of attraction that hold metal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re among the simplest crystalline solids because each metal contains one kind of atom that are arranged in compact and orderly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-centered cub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8 neighbors (except those on the surf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centered cub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12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xagonal close-pack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12 neighbors, but the pattern is different from face-centered cub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t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be all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43480" y="2952720"/>
            <a:ext cx="2648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s- formed through sharing of electrons betwe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ovalent Bonds- formed through sharing on one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and Triple Covalent Bonds- formed through sharing of 2 or 3 e-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Covalent Bonds- formed when 1 atom contributes sha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7816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wis Stru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electron dot structures)- represent 2D shape of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otal # of valence e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“central” atom ( not H, usually not halogen, usually lowest electronega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2 dots to bond each outer atom to the central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dots used in #3 from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maining e- (in pairs) to fill octets of all atoms (H only wants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enough e-, form double/trip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 to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vs. diamagnetic- para represents lone electrons and dia is for electro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xceptions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EPR-Valence Shell Electron Pair Repul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s shape by assuming electrons repel one another and spread out in 3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CO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962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SO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981080"/>
            <a:ext cx="25146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and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formed by “donation” of electrons from a (+) ion to a (-)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K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- donates e- to achieve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: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- accepts e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PR Shape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371600"/>
          <a:ext cx="8381880" cy="4886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ed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e Electron Pai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onal Pla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onal Pyramid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hed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Molecular P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&amp; visualize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direction of polarity of bonds using electronegativit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0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onpolar co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1-1.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olar co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1-3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ree e- pa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symmetry of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10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Di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lectronegativity means that atom is slightly more negative tha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989520"/>
            <a:ext cx="822960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Bond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orbitals form when atomic orbitals overl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3117960"/>
            <a:ext cx="72392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op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dot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valence electrons as dots with the inner electrons and the atomic nuclei are represented by the symbol for the element being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s of attraction that bind oppositely charged ions together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neutral groups of ions joined by electrostatic forces (also called sa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harges of the cations must equal the negative charges of the a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An ionic bond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Ion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- repeating formula units in 3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ot structures to describe the formula units formed between the following ato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&amp;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&amp;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&amp;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t cell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part of a crystal system that retains the crystal’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 systems- 7 know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tr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rhom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3680" y="1981080"/>
            <a:ext cx="402588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each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is surrounded by  6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coordination number of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on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the number of ions of opposite charge that surround each ion in a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43:27Z</dcterms:created>
  <dc:creator>Leanne Vogelsong</dc:creator>
  <dc:description/>
  <dc:language>en-US</dc:language>
  <cp:lastModifiedBy>Dawn Pav</cp:lastModifiedBy>
  <dcterms:modified xsi:type="dcterms:W3CDTF">2010-12-06T02:26:04Z</dcterms:modified>
  <cp:revision>52</cp:revision>
  <dc:subject/>
  <dc:title>Chapter 14</dc:title>
</cp:coreProperties>
</file>